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6471-FEE8-4AD1-B18B-7640F772FF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09/18/illegal-drugs-facts-infographic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3185-2F67-4BC9-AA19-1D5A6F0D11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CF15-9CC1-43B6-8378-2B6DD273D0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C1CA-1C90-4F81-A6AD-0C509FF3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38D-CC03-426C-9E32-605B0B85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FC6-BBFD-4FD6-9833-69E90104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A4C-7245-493A-AD0B-381D245B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B16-A43D-4463-B0D4-11C5CDEE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B611-EF22-47A7-BAD4-24FFAE9C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498-EA0A-49C9-82EF-0FBFB104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2F57-E6F1-4BA7-BAFC-D1F906C3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1FE-1771-4B63-8EF9-4D39FCCA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AE7-7E44-42DF-ABDE-04B7B374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5A3-6913-4119-AFC8-7C37A3B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2AA-9247-4BD2-B461-1D500CC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F5D-53A6-45A9-B1AC-0E3095FAE1DC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24264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a kilo of heroin cost on a UK stre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the farmer get for a kilo of opium poppies (used to make the heroin)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id the number of cannabis and cocaine users in the world rise or fall between 1998 and 2008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percentage of US teenagers use cannabi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o more people die per year from drugs, alcohol or tobacco? What is the percentage differenc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are the 5 most popular drugs in the worl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(check your answers on the next slid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475920"/>
            <a:ext cx="77612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Now read this to find out more about world drug use and argument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4720" y="3807000"/>
            <a:ext cx="3897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Linda Ruas</cp:lastModifiedBy>
  <dcterms:modified xsi:type="dcterms:W3CDTF">2014-05-26T20:48:19Z</dcterms:modified>
  <cp:revision>22</cp:revision>
  <dc:subject/>
  <dc:title>DRUGS</dc:title>
</cp:coreProperties>
</file>